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F82-B746-4323-969A-49C077F05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B4B9-C166-47A1-9071-78615BE556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461-3309-4155-BA5F-26065FA577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58E-DCBE-4713-B10A-80285B956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1B3-E984-4AA0-B33F-7424611494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348-08D5-4976-9D5D-C6D88D5D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454-BB64-414C-90B9-0C4E2E4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F1F-F37C-4F2E-A6BC-74F35ED2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2CC-ECBE-4708-A1EE-4D2A37F3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A7A0-6226-4F6C-956A-8116AF91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595-50E7-46BD-BBA8-5B34F54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69B-6DC7-4829-8D6D-2D1DFD2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A1E2-8B21-40B9-B9C7-84ECF3E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C3C1-B892-4CEF-BDEF-33FC5FEC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F09-3ABB-4A86-81B0-A6F88F7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14B-F611-4AA8-AE23-F41D22A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167-004F-4D17-A13C-5A9ACA41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C4BB-94CE-4054-8A56-3B459B4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C03D-92FC-48B1-9E24-5F196F1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613-09F9-409D-A678-54DF953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CCAD-1BAA-4E5F-A016-49E4FA28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1EC9-B3BD-493C-AD42-489DE174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CE7-61DE-4E68-9043-703AED5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4BE-06B9-4ADC-BF8E-435A0E68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5D9-B750-46DA-A0C2-871DB6A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5BB-7473-4034-8FF6-A8B61C81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B64-650E-4956-9271-CB2D490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70E-6B42-478B-AC21-622474F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90B-3588-44EA-8E5F-5FB0250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804-40D8-436D-A7E8-520EA72BBCF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419-69B1-40AC-9114-F5F79335BEA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Georgia"/>
              </a:rPr>
              <a:t>ПЕД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85800" y="1752480"/>
            <a:ext cx="769608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Georgia"/>
              </a:rPr>
              <a:t>«Персональный   брендин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Georgia"/>
              </a:rPr>
              <a:t>как инструмент профессиональной успешности учит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124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Звёз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3000240" cy="4489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533520" y="9144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629400" cy="473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990720" y="0"/>
            <a:ext cx="707076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98960" cy="441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4"/>
          <p:cNvSpPr/>
          <p:nvPr/>
        </p:nvSpPr>
        <p:spPr>
          <a:xfrm>
            <a:off x="379800" y="464832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лледж Итон, Виндзор, 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553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600" y="228240"/>
            <a:ext cx="8686800" cy="1676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онкуренц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(от лат. concurro - сбегаюсь, сталкиваюсь) - одна из основных форм организации межличностного взаимодействия, характеризующаяся достижением индивидуальных или групповых целей, интересов в условиях противоборства с добивающимися этих же целей и интересов другими индивидами или группам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981080"/>
            <a:ext cx="8458200" cy="152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онкурентоспособность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способность выдержать конкуренцию в борьбе за достижение лучши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нкурентоспособность на рынке труда – это соответствие качества предлагаемой рабочей силы спросу работодателя, заказч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304920" y="358128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онкурентоспособный педагог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– это такой педагог, который обеспечивает устойчивый уровень качества образовательных услуг, не имеет проблем с учебной нагрузкой, чьё имя «на слуху», у кого стремятся учиться, кто выдерживает конкур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ческие критерии успешности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914400"/>
            <a:ext cx="8001000" cy="4572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ровень обуч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ровень сформированности общеучебных умений и навы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остояние исследовательской работы и работы по самообраз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ние педагогов и повышение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пособность к самоанализу, рефлек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новацион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2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78000" y="1427040"/>
            <a:ext cx="8546760" cy="5284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80880" y="15228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фессионально-личностные  крите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успешности учител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зданию персонального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фессионально-личностные  критери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спешности учителя, способствующи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зданию персонального брен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Э м о ц и о н а л ь н о с т 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ы р а з и т е л ь н о с т ь   р е ч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Т в о р ч е с к о е   н а ч а л о   л и ч н о с т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 р г а н и з а т о р с к и е   с п о с о б н о с т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Ч у в с т в о   ю м о р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Н а с т о й ч и в о с т ь,   д и с ц и п л и н и р о в а н н о с т 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Тест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верь себя на успешность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2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85840" y="890640"/>
            <a:ext cx="878508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2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85840" y="493560"/>
            <a:ext cx="8802720" cy="667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Georgi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ределить наиболее значимые критерии успешности педагогической деятельности учителя, способы поддержки, сопровождения создания и развития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имиджа педагога, его персонального бренд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способного конкурировать на современном рынке образовательных усл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04920" y="837720"/>
            <a:ext cx="8686800" cy="4038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«В настоящий момент жизни я успешна на ___%, и я выбираю для себя сделать______________(здесь написать план действий, что Вы планируете сделать), чтобы иметь 100%ный  успех в своей Жизни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КАК  СОЗДАТЬ ПЕРСОНАЛЬНЫЙ БРЕНД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520" y="1295280"/>
            <a:ext cx="853452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 Шаг: Определите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2 Шаг: Определите нишу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воей педагогической деятельност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3 Шаг: Накопление и структуризация информатизации по вашей те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4 Шаг: Изучите конкуре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5 Шаг: Позиционирование себ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хема презентации бренд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685800"/>
          <a:ext cx="9144000" cy="6188040"/>
        </p:xfrm>
        <a:graphic>
          <a:graphicData uri="http://schemas.openxmlformats.org/drawingml/2006/table">
            <a:tbl>
              <a:tblPr/>
              <a:tblGrid>
                <a:gridCol w="5492880"/>
                <a:gridCol w="3651120"/>
              </a:tblGrid>
              <a:tr h="31248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араме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орма оформ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Фамилия, имя, отчест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оган из 1-2-х предложений (можно использовать образные выраже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Жизненные и профессиональные цели, ориентиры, пози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9160">
                <a:tc>
                  <a:txBody>
                    <a:bodyPr lIns="63360" rIns="63360" tIns="0" bIns="0" anchor="t">
                      <a:noAutofit/>
                    </a:bodyPr>
                    <a:p>
                      <a:pPr lvl="1" marL="290520" indent="-2905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 startAt="3"/>
                        <a:tabLst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в вас присутствует: интересы, склонности, задатки способностей; мотивационно-ценностные, личностные каче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дложение, которое начинается со слов «имею» и «владею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400">
                <a:tc>
                  <a:txBody>
                    <a:bodyPr lIns="63360" rIns="633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Что качественно можете сделать: личностные и профессиональные навыки, компетент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дложение, которое начинается со слова «могу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63360" rIns="633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Уникальность, полезность, результативность вашего предмета или курс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оган из 2-3-х предлож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Georgi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14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как чувствовал себя в процессе учения, было ли мне комфортно, с каким настроением работал, доволен ли соб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насколько комфортно мне работалось в малой группе; я помогал, помогали мне – что было больше; авторитетен ли я в вопросе….; у меня были затруднения в работе с групп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л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я достиг цели; мне этот материал нужен для дальнейшей….. (работы, учёбы, практики, просто интересен); в чём затруднился, почему; как мне преодолеть свои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Georgi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219320"/>
            <a:ext cx="8610480" cy="5333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ссмотреть труд учителя как трехмерное взаимосвязанное пространств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ределить факторы, влияющие на успешность работы уч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имулировать учителя к осмыслению, самодиагности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одействовать педагогам в реализации их индивидуальных планов по созданию персонального брен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206800" y="1444680"/>
            <a:ext cx="4359240" cy="419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58944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ММА ВПЕЧАТЛ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5410080" y="990720"/>
            <a:ext cx="33530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втомоби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ро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ме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тат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ч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агмати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мфор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ы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де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304920" y="1066680"/>
            <a:ext cx="4876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одитель и владеле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У меня все хорош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Я хорошо зарабатыв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Я – бизнесм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Я выбираю качество и надеж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ругая сумма впечатл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09480" y="1219320"/>
            <a:ext cx="3276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втомоби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е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е очень доро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енее прест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дежнее, чем росс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4148280" y="1271520"/>
            <a:ext cx="461484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одитель и владеле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Я работаю и умею считать день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Я выбираю соотношение цена/ка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Статус мне не важен, важнее цена и надеж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64440" cy="487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440" y="609120"/>
            <a:ext cx="8077320" cy="4496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ренд (англ. brand, [brænd] —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оварный знак, торговая марка) — термин в маркетинге, символизирующий комплекс информации о компании, продукте или услуге; популярная, легкоузнаваемая и юридически защищённая символика какого-либо производителя или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ренд —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диное обозначение (название, символ, лозунг, слоган, девиз, стиль, термин, идея, математическая модель, узнаваемое потребителем) концептуально — выработанного набора товаров и услуг, обычно, объединённых в направлении деятельности компании или объединения (для экономической и стратегической целесообразно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ренды, которые сразу приходят в гол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200400" cy="317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1895760" cy="190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20040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4724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тдельные достопримеча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809880" cy="51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30:25Z</dcterms:created>
  <dc:creator>Татьяна</dc:creator>
  <dc:description/>
  <dc:language>en-US</dc:language>
  <cp:lastModifiedBy>Владелец</cp:lastModifiedBy>
  <dcterms:modified xsi:type="dcterms:W3CDTF">2018-01-10T05:26:26Z</dcterms:modified>
  <cp:revision>59</cp:revision>
  <dc:subject/>
  <dc:title>Слайд 1</dc:title>
</cp:coreProperties>
</file>